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DCC35D-D2AB-46B6-8D45-5F07ACF4B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1F56D7-42F1-4E7A-886E-948626006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A4E739-CDBF-445F-B4F7-1B010AE606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4678B0-F8C0-4B78-92EC-8F118BD110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3C39B-7203-41A7-BC30-BC2193C22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44E1A-00BF-433A-BF4D-604CCBA1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4DF2-58A9-4836-A416-D4297E624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CE02-E968-4111-9737-CACE9818E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9B4F0-766D-41B0-8A08-9C326A312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635D4-8CB3-4E85-B70F-CBBFB31CD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00326-7417-4453-8065-6AFBAD96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5C26C-9148-4C3A-829A-8EF0B3251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57FE-3271-4C58-92B2-D8B908533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826F0-3064-409C-A2D8-989F77FF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15F15-0350-4F83-91E0-9F2F8EF18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5028B-03DA-456B-9A1A-480DA42D2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6578E-7B45-44E1-B91E-0BA3FE452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EE361-53AB-4DF9-B148-442556634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F084B-FE58-4734-8911-CA701BC1D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0FB92-F93E-4B94-89A3-2B64DFF2B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A26776-D289-4BC9-BF69-91AB0A8B6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D3CA85-E139-424D-BFA3-179374A40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FF109-ED13-45DB-A63C-73044AF32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1E89C-D63B-4042-A8FC-4B8456A2AE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F9DA-F796-40DF-84C0-83108EC170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B354-9DC1-41C6-80AE-27C3F5E24C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images.google.com.au/imgres?imgurl=http://img.thesun.co.uk/multimedia/archive/00368/SNN0815C_280_368506a.jpg&amp;imgrefurl=http://www.thesun.co.uk/sol/homepage/news/article311042.ece&amp;h=390&amp;w=280&amp;sz=21&amp;hl=en&amp;start=214&amp;tbnid=0a91BaHnaB9sUM:&amp;tbnh=123&amp;tbnw=88&amp;prev=/images%3Fq%3Dhijab%26start%3D200%26gbv%3D2%26ndsp%3D20%26hl%3Den%26sa%3DN" TargetMode="External"/><Relationship Id="rId2" Type="http://schemas.openxmlformats.org/officeDocument/2006/relationships/image" Target="../media/image1.jpeg"/><Relationship Id="rId3" Type="http://schemas.openxmlformats.org/officeDocument/2006/relationships/hyperlink" Target="http://images.google.com.au/imgres?imgurl=http://i33.photobucket.com/albums/d57/b_gardenia/islam/islam-burka.jpg&amp;imgrefurl=http://bluestarchronicles.com/2006/11/04/random-burka-thoughts/&amp;h=286&amp;w=309&amp;sz=15&amp;hl=en&amp;start=24&amp;tbnid=DETJIR_kdhitmM:&amp;tbnh=108&amp;tbnw=117&amp;prev=/images%3Fq%3DBurkas%26start%3D20%26gbv%3D2%26ndsp%3D20%26hl%3Den%26sa%3DN" TargetMode="External"/><Relationship Id="rId4" Type="http://schemas.openxmlformats.org/officeDocument/2006/relationships/image" Target="../media/image2.jpeg"/><Relationship Id="rId5" Type="http://schemas.openxmlformats.org/officeDocument/2006/relationships/hyperlink" Target="http://farm3.static.flickr.com/2205/2127102610_279ca02c0d.jpg?v=0"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ffffff"/>
                </a:solidFill>
                <a:latin typeface="Arial"/>
              </a:rPr>
              <a:t>Muslim Ethic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Studies of Religion – Depth Study (Islam)</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hoice</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men can choos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Do not prevent them from marrying their husbands when they agree between themselves in a lawful manner.” (Qur’an 2: 232)</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Imam Malik, one of the four great Imams of the Sunni schools of Islamic jurisprudence, gives a slightly restrictive interpretation to this verse and makes the choice of partner by a Muslim girl subject to the over-ruling power or ijbar of her father or guardian in the interests of the girl herself.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rry a Muslim</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o not marry unbelieving women (idolaters), until they believe: A slave woman who believes is better than an unbelieving woman, even though she allures you. Nor marry (your girls) to unbelievers until they believe…” Qur’an </a:t>
            </a:r>
            <a:r>
              <a:rPr b="1" i="1" lang="en-AU" sz="2000" spc="-1" strike="noStrike">
                <a:solidFill>
                  <a:srgbClr val="000000"/>
                </a:solidFill>
                <a:latin typeface="Arial"/>
              </a:rPr>
              <a:t>2:22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5">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vorce</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vorce is taken to be a last resort in Islam. The Prophet Muhammad sa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Of all the things Allah has permitted, the one He most dislikes is divorce". Qur’an </a:t>
            </a:r>
            <a:r>
              <a:rPr b="0" i="1" lang="en-AU" sz="2400" spc="-1" strike="noStrike">
                <a:solidFill>
                  <a:srgbClr val="000000"/>
                </a:solidFill>
                <a:latin typeface="Arial"/>
              </a:rPr>
              <a:t>2:226-227</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estranged couple chooses separation they must go through with it equitably. There must be two equitable witnesses witness the divorce before GO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nni Muslim law allows a man to say </a:t>
            </a:r>
            <a:r>
              <a:rPr b="1" i="1" lang="en-AU" sz="2400" spc="-1" strike="noStrike">
                <a:solidFill>
                  <a:srgbClr val="000000"/>
                </a:solidFill>
                <a:latin typeface="Arial"/>
              </a:rPr>
              <a:t>Talaaq</a:t>
            </a:r>
            <a:r>
              <a:rPr b="0" lang="en-AU" sz="2400" spc="-1" strike="noStrike">
                <a:solidFill>
                  <a:srgbClr val="000000"/>
                </a:solidFill>
                <a:latin typeface="Arial"/>
              </a:rPr>
              <a:t> three times (meaning I divorce you) and they are divorc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uslim </a:t>
            </a:r>
            <a:r>
              <a:rPr b="0" i="1" lang="en-AU" sz="2400" spc="-1" strike="noStrike">
                <a:solidFill>
                  <a:srgbClr val="000000"/>
                </a:solidFill>
                <a:latin typeface="Arial"/>
              </a:rPr>
              <a:t>dowry</a:t>
            </a:r>
            <a:r>
              <a:rPr b="0" lang="en-AU" sz="2400" spc="-1" strike="noStrike">
                <a:solidFill>
                  <a:srgbClr val="000000"/>
                </a:solidFill>
                <a:latin typeface="Arial"/>
              </a:rPr>
              <a:t> is a gift from the bridegroom to the bride and it becomes her exclusive property. (It remains her property even if she is later divorc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mosexuality</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ensus amongst scholars that we are naturally heterosexual.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Qur’an refers to Lot where Allah destroys those practising homosexual activ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diths – state homosexuality as a grave sin. Equivalent to adultery and deserving of the same punishment.</a:t>
            </a:r>
            <a:endParaRPr b="0" lang="en-US" sz="32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Gender Issu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slam, relations between the sexes are governed by the principle of complementarity rather than the principle of equalit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ny Islamic societies, there is a division of roles creating a woman’s space in the private sphere of the home and a man’s in the public sphere. </a:t>
            </a:r>
            <a:endParaRPr b="0" lang="en-US" sz="3200" spc="-1" strike="noStrike">
              <a:solidFill>
                <a:srgbClr val="000000"/>
              </a:solidFill>
              <a:latin typeface="Arial"/>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Gender Issues</a:t>
            </a:r>
            <a:endParaRPr b="0" lang="en-US" sz="4400" spc="-1" strike="noStrike">
              <a:solidFill>
                <a:srgbClr val="000000"/>
              </a:solidFill>
              <a:latin typeface="Arial"/>
            </a:endParaRPr>
          </a:p>
        </p:txBody>
      </p:sp>
      <p:sp>
        <p:nvSpPr>
          <p:cNvPr id="133" name="PlaceHolder 2"/>
          <p:cNvSpPr>
            <a:spLocks noGrp="1"/>
          </p:cNvSpPr>
          <p:nvPr>
            <p:ph/>
          </p:nvPr>
        </p:nvSpPr>
        <p:spPr>
          <a:xfrm>
            <a:off x="456840" y="1980720"/>
            <a:ext cx="5194440" cy="44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ress Cod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 Hijab, Burka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n – cover navel to kne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ship</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separate to men</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n work - finan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 Household &amp; Famil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youtube.com/watch?v=Z2Oi3reniw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a:hlinkClick r:id="rId1"/>
          </p:cNvPr>
          <p:cNvPicPr/>
          <p:nvPr/>
        </p:nvPicPr>
        <p:blipFill>
          <a:blip r:embed="rId2"/>
          <a:stretch/>
        </p:blipFill>
        <p:spPr>
          <a:xfrm>
            <a:off x="5867280" y="2060640"/>
            <a:ext cx="992160" cy="1387440"/>
          </a:xfrm>
          <a:prstGeom prst="rect">
            <a:avLst/>
          </a:prstGeom>
          <a:ln w="0">
            <a:noFill/>
          </a:ln>
        </p:spPr>
      </p:pic>
      <p:pic>
        <p:nvPicPr>
          <p:cNvPr id="135" name="" descr="">
            <a:hlinkClick r:id="rId3"/>
          </p:cNvPr>
          <p:cNvPicPr/>
          <p:nvPr/>
        </p:nvPicPr>
        <p:blipFill>
          <a:blip r:embed="rId4"/>
          <a:stretch/>
        </p:blipFill>
        <p:spPr>
          <a:xfrm>
            <a:off x="7308720" y="2133720"/>
            <a:ext cx="1474920" cy="1361880"/>
          </a:xfrm>
          <a:prstGeom prst="rect">
            <a:avLst/>
          </a:prstGeom>
          <a:ln w="0">
            <a:noFill/>
          </a:ln>
        </p:spPr>
      </p:pic>
      <p:pic>
        <p:nvPicPr>
          <p:cNvPr id="136" name="" descr="">
            <a:hlinkClick r:id="rId5"/>
          </p:cNvPr>
          <p:cNvPicPr/>
          <p:nvPr/>
        </p:nvPicPr>
        <p:blipFill>
          <a:blip r:embed="rId6"/>
          <a:stretch/>
        </p:blipFill>
        <p:spPr>
          <a:xfrm>
            <a:off x="7380360" y="3970440"/>
            <a:ext cx="1512720" cy="1141200"/>
          </a:xfrm>
          <a:prstGeom prst="rect">
            <a:avLst/>
          </a:prstGeom>
          <a:ln w="0">
            <a:noFill/>
          </a:ln>
        </p:spPr>
      </p:pic>
      <p:pic>
        <p:nvPicPr>
          <p:cNvPr id="137" name="" descr=""/>
          <p:cNvPicPr/>
          <p:nvPr/>
        </p:nvPicPr>
        <p:blipFill>
          <a:blip r:embed="rId7"/>
          <a:stretch/>
        </p:blipFill>
        <p:spPr>
          <a:xfrm>
            <a:off x="5724360" y="3951360"/>
            <a:ext cx="1511640" cy="1136520"/>
          </a:xfrm>
          <a:prstGeom prst="rect">
            <a:avLst/>
          </a:prstGeom>
          <a:ln w="0">
            <a:noFill/>
          </a:ln>
        </p:spPr>
      </p:pic>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3">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3">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3">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3">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3">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3">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estion</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ain how the sexual ethics of Muslims express Islamic belief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HSC Essay Question 4 — Islam </a:t>
            </a:r>
            <a:r>
              <a:rPr b="0" lang="en-US" sz="3200" spc="-1" strike="noStrike">
                <a:solidFill>
                  <a:srgbClr val="000000"/>
                </a:solidFill>
                <a:latin typeface="Arial"/>
              </a:rPr>
              <a:t>(20 marks) </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Islamic ethical teachings in ONE area. Choose from: bioethics; environmental ethics; sexual ethic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thical Dilemmas</a:t>
            </a:r>
            <a:endParaRPr b="0" lang="en-US" sz="4400" spc="-1" strike="noStrike">
              <a:solidFill>
                <a:srgbClr val="000000"/>
              </a:solidFill>
              <a:latin typeface="Arial"/>
            </a:endParaRPr>
          </a:p>
        </p:txBody>
      </p:sp>
      <p:sp>
        <p:nvSpPr>
          <p:cNvPr id="109" name="PlaceHolder 2"/>
          <p:cNvSpPr>
            <a:spLocks noGrp="1"/>
          </p:cNvSpPr>
          <p:nvPr>
            <p:ph/>
          </p:nvPr>
        </p:nvSpPr>
        <p:spPr>
          <a:xfrm>
            <a:off x="457200" y="1628640"/>
            <a:ext cx="822960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donate a kidney so that another may liv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turn off life support for my brain-dead child?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 mercifully end the suffering of my terminally ill, elderly mother?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am pregnant with quintuplets, should I abort one or more so that the others have a better chance of surviv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face infertility, how far should I go in treatment so that I might have a chi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dical treatment continues to expand and advance, more ethical questions come up.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our Sources for Islamic Ethics</a:t>
            </a:r>
            <a:endParaRPr b="0" lang="en-US" sz="4400" spc="-1" strike="noStrike">
              <a:solidFill>
                <a:srgbClr val="000000"/>
              </a:solidFill>
              <a:latin typeface="Arial"/>
            </a:endParaRPr>
          </a:p>
        </p:txBody>
      </p:sp>
      <p:sp>
        <p:nvSpPr>
          <p:cNvPr id="111" name="PlaceHolder 2"/>
          <p:cNvSpPr>
            <a:spLocks noGrp="1"/>
          </p:cNvSpPr>
          <p:nvPr>
            <p:ph/>
          </p:nvPr>
        </p:nvSpPr>
        <p:spPr>
          <a:xfrm>
            <a:off x="456840" y="1341360"/>
            <a:ext cx="8435880" cy="518328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Qur’an</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unna of the Prophet– details some of the concepts, laws &amp; practical matters stated in the Qur’an.</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jma (consenus of Muslim Scholar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gal precedents or Qiy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overriding concept of Muslim ethics is </a:t>
            </a:r>
            <a:r>
              <a:rPr b="1" i="1" lang="en-AU" sz="3200" spc="-1" strike="noStrike">
                <a:solidFill>
                  <a:srgbClr val="000000"/>
                </a:solidFill>
                <a:latin typeface="Arial"/>
              </a:rPr>
              <a:t>tawhid</a:t>
            </a:r>
            <a:r>
              <a:rPr b="1" lang="en-AU" sz="3200" spc="-1" strike="noStrike">
                <a:solidFill>
                  <a:srgbClr val="000000"/>
                </a:solidFill>
                <a:latin typeface="Arial"/>
              </a:rPr>
              <a:t>, the absolute oneness of God.</a:t>
            </a:r>
            <a:endParaRPr b="0" lang="en-US" sz="32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versity of View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spite the promotion of unity of God and community (umma), a diversity of views exist. The reasons for thi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arious schools of jurispru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sects within Isla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s in cultural backgroun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levels of religious observance</a:t>
            </a:r>
            <a:endParaRPr b="0" lang="en-US" sz="2800" spc="-1" strike="noStrike">
              <a:solidFill>
                <a:srgbClr val="000000"/>
              </a:solidFill>
              <a:latin typeface="Arial"/>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unni vs Shi’i Jurisprudenc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difference starts in the sunna of the Prophe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nni’s</a:t>
            </a:r>
            <a:r>
              <a:rPr b="0" lang="en-AU" sz="2400" spc="-1" strike="noStrike">
                <a:solidFill>
                  <a:srgbClr val="000000"/>
                </a:solidFill>
                <a:latin typeface="Arial"/>
              </a:rPr>
              <a:t>: believe everything narrated by the Prophet as long as transmittors are trustworthy. To develop Shari’a, ijma and qiyas are required – hence the four schools of jurispruden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hi’ites:</a:t>
            </a:r>
            <a:r>
              <a:rPr b="0" lang="en-AU" sz="2400" spc="-1" strike="noStrike">
                <a:solidFill>
                  <a:srgbClr val="000000"/>
                </a:solidFill>
                <a:latin typeface="Arial"/>
              </a:rPr>
              <a:t> developed their own system. They believe that until Mahdi returns, the twelve Imams instructed believers to follow the instructions or judgements of the mujtahid.</a:t>
            </a:r>
            <a:endParaRPr b="0" lang="en-US" sz="2400" spc="-1" strike="noStrike">
              <a:solidFill>
                <a:srgbClr val="000000"/>
              </a:solidFill>
              <a:latin typeface="Arial"/>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slam and Sexual Ethic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conceived ide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riage &amp; Sexua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mosexua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der Issues</a:t>
            </a:r>
            <a:endParaRPr b="0" lang="en-US" sz="2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rriage and Sexuality</a:t>
            </a:r>
            <a:endParaRPr b="0" lang="en-US" sz="4400" spc="-1" strike="noStrike">
              <a:solidFill>
                <a:srgbClr val="000000"/>
              </a:solidFill>
              <a:latin typeface="Arial"/>
            </a:endParaRPr>
          </a:p>
        </p:txBody>
      </p:sp>
      <p:sp>
        <p:nvSpPr>
          <p:cNvPr id="119"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is encouraged for Muslims to marry and not stay single. Follows the life of the Prophet.</a:t>
            </a:r>
            <a:endParaRPr b="0" lang="en-US" sz="28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rpose for marriage:</a:t>
            </a:r>
            <a:endParaRPr b="0" lang="en-US" sz="28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ain sexual passion.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dering of domestic life.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e and responsibility towards children. </a:t>
            </a:r>
            <a:endParaRPr b="0" lang="en-US" sz="2400" spc="-1" strike="noStrike">
              <a:solidFill>
                <a:srgbClr val="000000"/>
              </a:solidFill>
              <a:latin typeface="Arial"/>
            </a:endParaRPr>
          </a:p>
          <a:p>
            <a:pPr lvl="1" marL="914400" indent="-45720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sion of the family. </a:t>
            </a:r>
            <a:endParaRPr b="0" lang="en-US" sz="24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 jurists have traditionally held that Muslim women may only enter into marriage with Muslim men. </a:t>
            </a:r>
            <a:endParaRPr b="0" lang="en-US" sz="2800" spc="-1" strike="noStrike">
              <a:solidFill>
                <a:srgbClr val="000000"/>
              </a:solidFill>
              <a:latin typeface="Arial"/>
            </a:endParaRPr>
          </a:p>
          <a:p>
            <a:pPr marL="533520" indent="-5335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amy is permitted under restricted conditions  - up to 4 wives with first wife’s consent.</a:t>
            </a:r>
            <a:endParaRPr b="0" lang="en-US" sz="2800" spc="-1" strike="noStrike">
              <a:solidFill>
                <a:srgbClr val="000000"/>
              </a:solidFill>
              <a:latin typeface="Arial"/>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rriage and Sexuality</a:t>
            </a:r>
            <a:endParaRPr b="0" lang="en-US" sz="4400" spc="-1" strike="noStrike">
              <a:solidFill>
                <a:srgbClr val="000000"/>
              </a:solidFill>
              <a:latin typeface="Arial"/>
            </a:endParaRPr>
          </a:p>
        </p:txBody>
      </p:sp>
      <p:sp>
        <p:nvSpPr>
          <p:cNvPr id="121"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eption with the aim of having a permanently child-free marriage is not accepted. So sterilisation is wrong - partly because it prevents children permanent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lam is strongly pro-family and regards children as a gift from G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lim sexual ethics forbid sex outside marriage – adultery is punishable (home detention, whipping, even death).</a:t>
            </a:r>
            <a:endParaRPr b="0" lang="en-US" sz="3200" spc="-1" strike="noStrike">
              <a:solidFill>
                <a:srgbClr val="000000"/>
              </a:solidFill>
              <a:latin typeface="Arial"/>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r’an</a:t>
            </a:r>
            <a:endParaRPr b="0" lang="en-US" sz="4400" spc="-1" strike="noStrike">
              <a:solidFill>
                <a:srgbClr val="000000"/>
              </a:solidFill>
              <a:latin typeface="Arial"/>
            </a:endParaRPr>
          </a:p>
        </p:txBody>
      </p:sp>
      <p:sp>
        <p:nvSpPr>
          <p:cNvPr id="123" name="PlaceHolder 2"/>
          <p:cNvSpPr>
            <a:spLocks noGrp="1"/>
          </p:cNvSpPr>
          <p:nvPr>
            <p:ph/>
          </p:nvPr>
        </p:nvSpPr>
        <p:spPr>
          <a:xfrm>
            <a:off x="457200" y="155700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d among His signs is this, that He created for you mates from among yourselves, that you may dwell in tranquillity with them, and He has put love and mercy between your hearts. Undoubtedly in these are signs for those who reflect. Qur’an 30:21</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ption = Marriage or abstai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d let those who do not find the means to marry keep chaste until Allah makes them free from want out of His grace. (Qur’an 24:33)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 you young men! Whoever is able to marry should marry, for that will help him to lower his gaze and guard his modesty." (Al-Bukhari)</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4:57:45Z</dcterms:created>
  <dc:creator>Karina Johnston</dc:creator>
  <dc:description/>
  <dc:language>en-US</dc:language>
  <cp:lastModifiedBy>Shore</cp:lastModifiedBy>
  <dcterms:modified xsi:type="dcterms:W3CDTF">2008-08-03T23:07:07Z</dcterms:modified>
  <cp:revision>13</cp:revision>
  <dc:subject/>
  <dc:title>Muslim Ethics</dc:title>
</cp:coreProperties>
</file>